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AF61-670F-4794-A095-22A51E7A58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5E87-3B41-4773-B43F-53BF8DE983C7}"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B363-E607-4713-B3FB-C71DC38A1D3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BCA1-6203-4E09-A297-5BF4EB124EB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75A05-DAAD-423C-8288-672990A37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C01C-DA45-4898-8A8A-A6CD000B5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06291-18D4-4ED0-800E-ACF6B0A70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CEBD2-0C84-43E5-AF6F-E5EC63FFC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2AADB-2412-4136-808D-9D1E58A73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C4F8D-75A0-4D0E-BA98-6ABAEB843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7EC90-1BE5-4922-90C6-3827F02BF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26335-83D0-4D0B-B6E4-5707248C5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4B4A4-3A47-48D1-8BA7-5BC835295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18BEA-8B17-4631-A738-6206EF23F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C3897-6224-4B5A-988F-934296B20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97B07-9C2B-471A-8F36-1C7C427A2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FF4AD-0D64-4744-AE72-8CACD63DE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FC073-546A-424C-A1FC-9609FF4CC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9E41D-BD59-4553-A710-A3019AD56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9274F-F23E-486E-B1D8-1559D5941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6ADD3-497E-4A13-BCA0-E40BC47CB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56CE94-94D2-486C-8D25-82CB52FAF2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D4A10F-8D48-4F02-8CBF-9E217F0CC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DD3FE3-C5E1-4ABB-9789-EA47EF199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5C6CE-D5FF-4D97-A37F-0C3598E737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8C2E6-BE32-4992-9612-5FC84CE4C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90357-1412-4A18-9012-81D1C5EDF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498319-9E5B-421D-99DD-CCB92BA03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D5AAC-DAAD-41F4-A6CE-B97555C54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624E9-ADFB-48FE-9782-2F7C22835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54290-5BF6-4EB7-A30F-E70DF8883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E1128-9ABB-4854-8AA5-6D6D45FAF0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BAA547-5253-4636-93C7-F99E4370DB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1F1B26-9E4D-461C-A59E-788469A24C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7F011A-D30B-4A53-BCF4-7FBBEB283D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669CA-C5ED-4F40-AB65-E02A15579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97523-4ACB-442B-8884-F854EEFB38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3B6EF-E546-427F-A0DB-76CE5250C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C43D6-987E-4B43-B2EA-6505CF4A0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6D77D8-2B63-4686-B93B-5353960EA1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E35E01-9A85-43D5-9008-690AED49E1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77E44-E022-4D7F-BE45-BFBD5A728C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1B1D8-0A53-4B29-8817-2DD238553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E6281-CDEE-427E-BF1D-AABB7389D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C0841-89DD-4E75-8388-38A07428F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4B30D8-DBD1-47C3-AAB0-DD8BFC22C5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E321B9-9FF2-4F4C-90C1-F5667349BF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C7CFD-0E07-4A5E-A4F9-EF1CEE6E7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4E057-2CC2-4063-BDBB-7A09453DD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4064E-2813-425A-910C-6F7D8E6D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66B4C-2D14-457E-AD4C-E77C3057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6EA3-B4A0-4250-82EC-2DB352F31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F9A1-B4D6-4DF8-AA51-A81EA092617F}"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DFF4-1B16-417D-94FF-36B9B33D69A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2794-C781-4ED2-959D-1567388820CD}"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8C61-69A1-4077-AC1B-FB0724B6086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82D2-1E04-4C42-8A65-C58A5495EDC3}"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5018-6818-45B0-9F02-5AA56F957EC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548D-41FE-4F87-89C7-264FF1104FFC}"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C01B-F4E5-4B8C-88B8-91C1EE4E626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hyperlink" Target="http://www.youtube.com/watch?v=4jTYDa1JzoE"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481040"/>
            <a:ext cx="8180280" cy="218304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73D0-F216-48A7-B099-0F455B2BCAD8}" type="datetime">
              <a:rPr b="0" lang="en-US" sz="1200" spc="-1" strike="noStrike">
                <a:solidFill>
                  <a:srgbClr val="d1eaee"/>
                </a:solidFill>
                <a:latin typeface="Verdana"/>
              </a:rPr>
              <a:t>07/31/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51C8-6086-426B-9937-43460BA0C55F}"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20E8-CA6C-4C17-AB41-DF2097E64FCB}"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0608-B800-4B56-B0D7-8D4F5A29E2C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44"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4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AAD1-C0E8-4DAB-9FAC-D7BC25783BEF}"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4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24FE-654B-440D-B819-EAA3D62DCCE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7"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C6CE-8ECA-4CBF-90DF-C6AC7AE4AB8C}"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5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CB30-65C2-4885-882E-C1382839586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3"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55"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BB56-205B-4FF0-9C2B-08F0F30C2B1E}"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D3E1-F786-4B10-B53A-F5AFDA8C1DA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6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B0E1-F73E-4C8A-A14A-7F89C518D778}"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ADDB-2E13-4ADB-BCF6-8B1ADFC559C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3AAB-C442-42D5-BFAA-22B0E65DE7E1}"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6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2869-24D6-49BB-ACD3-2C5669F0685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a:t>
            </a:r>
            <a:r>
              <a:rPr b="0" lang="en-US" sz="2600" spc="-1" strike="noStrike" u="sng">
                <a:solidFill>
                  <a:srgbClr val="e2d700"/>
                </a:solidFill>
                <a:uFillTx/>
                <a:latin typeface="Constantia"/>
                <a:hlinkClick r:id="rId2"/>
              </a:rPr>
              <a:t>The Boeing 787 Dreamliner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9DD7-63C4-41BF-B2D1-74D591CC3932}"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9DA9-0F1D-43BD-A304-402DB793122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72" name="Picture 7" descr=""/>
          <p:cNvPicPr/>
          <p:nvPr/>
        </p:nvPicPr>
        <p:blipFill>
          <a:blip r:embed="rId3"/>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81D3-BC2C-40B0-A1DC-B760DD42B4F9}"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A276-E4CA-44FF-AC7A-CBCF91483FC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78"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701C-C037-4789-ADF9-7B975648DBEF}"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1B79-7C9C-4B58-8B2F-427684A3604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2"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593C-BBE3-41B4-8028-7E23B448689D}"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8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34AA-77F6-486B-9113-69E021AE03D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F389-4B22-4623-9F08-E48603721D39}"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5D4F-50D1-4561-8A6A-D6A5906DAF6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E2DB-087C-4F87-8EF2-F299D3136B34}"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F044-06C5-4E8C-A4DF-3B77EF9B1FB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757F-B76B-46C1-84AC-933C864AD38E}"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77A7-A4AF-4F73-BC10-6D0E4EDA747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F065-D417-439A-9879-A5206BB4AB03}"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19C3-16A3-4838-AF23-7F8AA0A1988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402D-BCB6-4BE7-B8AD-36F44F537C46}"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A953-8E16-4A44-8FFD-23BD6C1E787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E384-8866-4D12-9A14-E6AE4C9E72B7}"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C802-19C5-44A6-BBE6-B474060D4EA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8723-8FF7-47E2-AF42-F7F565E6DF12}"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AD51-FBBF-45AB-9306-250D13D51E2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AC7B-2532-4F46-9016-99274B3EF4D8}"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5999-18E9-4F42-8559-309BF29B3AC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2-01-04T18:09:44Z</dcterms:modified>
  <cp:revision>24</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